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B817-F6AD-413F-949D-05C43A1D8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610-CC82-4E39-AD83-AD15C363D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6BBD-208D-4770-A2D7-378837D9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F34-9CA3-479A-979A-77B0FFD6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1C2-3314-43B9-819F-7EF4BBAD3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B7C-8BE3-4B31-9AFB-28718AD4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68D-49D3-43EF-8135-D630E683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FE81-CC1F-4536-BEC0-67F10553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9E23-8776-4623-8975-BDA25B7A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5403-02F7-40D5-808D-6749DBB5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8DE-8A3E-469F-BB84-E841CE80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3166-C676-41BE-8177-920F3ADA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9469-DA2A-462C-AB44-1FE07D0D4AD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04440" y="404640"/>
            <a:ext cx="36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스마트폰 일반카드 결제 샘플 가이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안드로이드 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11280" y="1628640"/>
          <a:ext cx="7993080" cy="4543560"/>
        </p:xfrm>
        <a:graphic>
          <a:graphicData uri="http://schemas.openxmlformats.org/drawingml/2006/table">
            <a:tbl>
              <a:tblPr/>
              <a:tblGrid>
                <a:gridCol w="1800000"/>
                <a:gridCol w="6193080"/>
              </a:tblGrid>
              <a:tr h="384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역변수를 사용하기 위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p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어플 처음 실행시 시작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와 계좌이체 결제를 선택할 수 있도록 되어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카드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문자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페이지를 호출하여 결제가 카드결제가 진행되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등과 같은 을 제어한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ntPayDemo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계좌이체 결제를 담당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sultRcv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른 앱에서 되돌아올 때 호출되는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입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으로 호출됩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퍼미션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RNET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만 선언되었으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안드로이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DK 7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버전으로 개발되었습니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Text Box 21"/>
          <p:cNvSpPr/>
          <p:nvPr/>
        </p:nvSpPr>
        <p:spPr>
          <a:xfrm>
            <a:off x="513000" y="976320"/>
            <a:ext cx="27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ndroidManifest.xm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682560" y="847800"/>
          <a:ext cx="7993080" cy="571032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34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Creat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을 설정하고 업체 주문페이지를 호출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사용하는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옵션기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avePassword(fals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웹페이지 비밀번호 자동저장 하지 않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Enabled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 허용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JavaScriptCanOpenWindowsAutomatically(true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자바스크립트를 이용하여 윈도우를 새로 열수 있도록 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실행하며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설치 되어있지 않으면 설치하도록 유도를 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InfoBridg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 및 실행을 유도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PinReturn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 응답값을 확인하는 클레스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클레스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선택시에만 사용되는 클레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seWideViewPort(true)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보이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화면을 와이드하게 확대함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WebChromeCli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기능을 사용할 수 있도록 선언되었음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Cli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상속받아 구현되었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판단하여 분기처리한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클레스 및 함수 상세 설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_scheme_intent(String url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해당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이용하여 호출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mWebViewClient : webView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서 호출되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메일과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전화번호는 자동연결을 막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을 주소를 판단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loadUrl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 방식과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ntent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호출방식으로 나누어 분기처리하여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CardInfoBridge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카드 결제시 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을 호출 전에 카드정보와 결제방식 정보를 전역변수에 저장하고 앱을 호출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KCPPayBridge : device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에 설치되어있는 모든 앱을 확인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의 설치여부를 판단하여 설가 되어있으면 앱을 호출하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,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되어있지 않으면 안드로이드 마켓을 호출하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설치를 유도하는 클래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finishActivity(String p_strFinishMsg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현재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를 종료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checkFrom() : 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앱 종료 후 호출되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approval_ke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값을 전달하여 결제를 진행하는 함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PaypinInfo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어플이 설치 되어 있는지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paypinConfi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설치화면 이동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getConfirm() :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  <a:ea typeface="굴림"/>
                        </a:rPr>
                        <a:t>페이핀 결제 완료 또는 취소를 확인 하는 함수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nRestart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서 타 앱에서 복귀했을 때 호출되어 전역클레스에 값이 전달되었는지 확인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ResultRcvActivity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의해 값이 전역클레스에 정상적으로 전달되었을경우에는 결제를 진행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하나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K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아닌경우에는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heckFrom() 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함수가 실행되어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제가 정상적으로 처리됩니다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40"/>
          <p:cNvSpPr/>
          <p:nvPr/>
        </p:nvSpPr>
        <p:spPr>
          <a:xfrm>
            <a:off x="554760" y="3333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PayDemo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682560" y="847800"/>
          <a:ext cx="7993080" cy="104148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능 상세설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마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ysample’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에 의해 호출되며 타앱에서 보낸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ntent 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전역클레스에 전달한 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tivity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를 끝낸다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yApp.b_typ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값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rue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로 만들어야 페이핀 어플에서 값을 받은 걸로 판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lvl="1" marL="685800" indent="-22860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굴림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40"/>
          <p:cNvSpPr/>
          <p:nvPr/>
        </p:nvSpPr>
        <p:spPr>
          <a:xfrm>
            <a:off x="573120" y="3333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ResultRcvActiv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2560" y="847800"/>
          <a:ext cx="7993080" cy="3143160"/>
        </p:xfrm>
        <a:graphic>
          <a:graphicData uri="http://schemas.openxmlformats.org/drawingml/2006/table">
            <a:tbl>
              <a:tblPr/>
              <a:tblGrid>
                <a:gridCol w="1009800"/>
                <a:gridCol w="6983280"/>
              </a:tblGrid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내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P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변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테스트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devpggw.kcp.co.kr:810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리얼 결제결과 웹 호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pggw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신서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WebView.loadUrl( "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ttps://smpay.kcp.co.kr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/app.do?ActionResult=app&amp;AppUrl=paysample&amp;approval_key=" + strApprovalKey 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40"/>
          <p:cNvSpPr/>
          <p:nvPr/>
        </p:nvSpPr>
        <p:spPr>
          <a:xfrm>
            <a:off x="868320" y="3333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개발시 유의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06:59:01Z</dcterms:created>
  <dc:creator>polaris</dc:creator>
  <dc:description/>
  <dc:language>en-US</dc:language>
  <cp:lastModifiedBy>민수</cp:lastModifiedBy>
  <dcterms:modified xsi:type="dcterms:W3CDTF">2013-08-05T06:03:25Z</dcterms:modified>
  <cp:revision>65</cp:revision>
  <dc:subject/>
  <dc:title>슬라이드 1</dc:title>
</cp:coreProperties>
</file>